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3B8-BEC2-4C87-B433-20AD8077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BAE-3C83-4489-B0D3-25709F8A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F877-2B4E-47E6-B984-6860064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5461A-ED77-4820-9820-65E110E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2480-0E85-41B0-91F1-4601121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BF1E-4C2C-4E1B-9439-D7B469B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13D3-0B2C-4ABC-AEBD-8CE6317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310C7-CD28-4845-8405-5212503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2B7D-933E-490E-9B29-89FAE7EE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0AAF9-51DB-4154-ADB5-BDADBE44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95CDF-BEE5-4F8B-B3AF-6425587D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2DE71-A01B-4D34-990E-39097D1E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201-776C-47A6-9EBA-A563B36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B7D96-8345-4E7C-8B2E-42F6698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296CE-662F-483B-B55B-DA48854B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8D64-25C1-4988-B021-FCF2546D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103D-7333-4B5E-A7CD-4C1049C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82EE9-3105-4F04-920A-E6066EB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1F251-61B5-4902-A416-91FC715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AC459-27C9-4856-80C0-A70E0EE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DEA9-DDA5-47EA-BB6E-1D959CA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064EB-1CEF-4031-8797-47976B9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58F71-804B-4B8F-AB3E-23B06642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20C-0E04-4675-A5C4-04043E36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F9214-DD12-4ABB-8EB3-1623CE2B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CC52-48FD-4172-BD5E-981BC531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A7C3-42AC-4E61-AFB0-AAF527F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48E5D-CA2E-4BDC-A2C4-22A05571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1E912-1B94-4B73-98DB-CD382EB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127F-A63F-4FFB-A0A1-989558E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AF9D7-BF13-4566-B805-8DEEA49C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6ADBD-0783-4C81-99F2-3050E02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B6B2-5CCE-40E2-AC7E-EAECF0F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1C6D-4597-4B26-8F4D-9D2416E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9F2E-B300-42CF-A0C3-02D60161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2822-FD73-4231-8C72-22351F1A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C12E4-C52A-465E-9FBB-AD917326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A8ED-14CD-4BF6-86DB-EF399072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F28CE-DC21-4316-B2E9-B9642C9A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D7997-757A-4267-ABD0-1CE442CF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B2B6-E03A-44F9-A192-E3AB5C9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EB7E-BA7C-45E8-B79D-99EBAF1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BDF99-5C9E-4B82-BC8B-D88F05C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61529-E64E-4CC1-A4F9-3DCD236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64A44-D48D-4E94-AA1C-7939B2C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943C-66C2-4E9C-8C53-C28D5CCB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73F1-A1B2-4CC6-A7A5-F676CCC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B69A-FA4C-4081-A52E-53B3B8A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2B925-8273-49E4-B1C0-AE759A5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69230-BE09-40A5-B6F4-6F911473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B7F5D-62D4-4F33-B141-FE175CF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ECB05-BC40-468B-ADE7-D756E49F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89BAC-B6A4-45A4-AB00-D8BB248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BF7CE-1E4E-46FC-86C6-8DC7448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90B31-9451-4B93-9A3B-CD65CED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8A6AE-6F6E-4F4B-ABA0-13ABAB0E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364-AD32-4276-A78E-FE419A7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1450C-8FAE-4F24-81CC-5DC98A08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35B68-33C7-463F-984F-945CE07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3FA44-67A1-458D-BBAE-659F05F4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3C73E-337E-448F-BDD4-40C653D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1DAE6-80E9-47BD-B22C-43371051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59140-D8FD-4895-BD54-003C6C92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EC246-79EA-4AA6-9119-EFBCC09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43253-5B5B-46A3-BAE8-C2995800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DB8CB-CD1A-44B0-AA34-9E96B8B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0E3C4-35CE-478F-BFC2-C6567EE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AFF-335C-45A9-A5F9-C07008EE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E3CB3-7589-4FFF-92E6-953C71D7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B1990-2ACA-4A2C-AF49-617BF2FF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CCFBC-2FD9-486C-BCF0-F93AB79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88B07-B150-4372-865F-713B27D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DBDD0-D9F9-40BE-83C8-3A765C0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928AB-337F-49F4-A020-2387637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012BA-530A-4D47-B36D-D4E28D0B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1D020-19D8-458E-872A-7872B5B4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E6B2F-504A-4753-9C28-A6E9C83B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0D9FA-3B38-4A2D-A6B1-0382C1AF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E192-3A7D-4EFC-931B-5864A17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FD345-CAB9-4DD4-8AA7-7E9725E2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9C31B-BD32-4CA9-8C2F-5D7854D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BA4BC-43C2-49F0-9CB5-9178E72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4BB0F-C2BC-4D9F-88E9-2DB7934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25AD4-5476-4F4F-96D7-9747F1C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E2B79-95A5-4005-A125-1ED08E48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BB35D-1D1E-450E-9030-CF6F98A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A1D36-699B-4289-AA53-804666D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2C8FF-80DC-4730-8AA3-3072CB0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439ED-8597-494C-A360-26228486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4DAA-D378-4F6C-8E54-59FC0D0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E7227-7963-48EB-9F1C-40DCAC8E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141D5-8E35-4CC2-AAC3-C8D72831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302DA-874E-4F04-8A78-6EB497A9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0535B-E9FE-4D62-B3C2-D3E9556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DA20A-AF1F-489F-8675-621213B2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B1A37-4F50-4BEF-B050-FD0BDEAA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B3DD2-BE14-4BAB-8F8D-3E179FE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FCF95-8052-4ED9-9F07-11C3793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D3C22-3BE7-4E6F-87DE-5F1BF4D3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06D78-3841-4FF4-84C6-2CCDE5BE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22B-2C0C-4287-B4AD-7F93CEF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BD584-355C-4280-92C1-9BB11A1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1CDD7-F8EA-4FE4-999C-24878723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BFC11-9CFB-4C8C-8421-302380BB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D279B-D55B-411A-AC2E-4B56BAB5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8C03B-46D4-4862-8B2B-3A481041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F75C3-FD22-44CE-A101-03458250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1046E-9A48-4EF5-8658-B196EE86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96978-56F7-4449-8238-A1A3A7CE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D18E-1004-4D50-8535-27C0B032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5C6F1-C7B2-4B45-ACE8-0F101C1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EF1-8619-4CE7-B3B8-372ADB22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543-8920-4E9A-A409-DC42C48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32681-A9E1-4430-9C87-29BC853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83F94-D4EA-4BAB-A93F-84C52AE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F3FE3-DAC4-401B-8279-D924CCD2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B5EC9-AB59-45AA-A8D7-CB542663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E6E1D-8980-4E9E-A7A1-827B78DB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CD591-9E0F-4CED-8047-EF98E37F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679A5-FA71-46B6-81A8-CA72CA1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DB4ED-EDF4-48B7-BC53-6B3FD5E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93DF4-818C-4C49-82E8-103E5F6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0D94D-CC33-484A-9671-86EB9B6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072-5EB8-448D-9B1A-05F73CE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DB970-6F28-48A5-A47E-9396CBA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4A65C-76C3-47A7-A4A5-A2A5D89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562FF-B1BF-4260-9C61-A15B5AE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A84C2-F7D0-4A5A-BB03-30892EB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F20C4-1D7D-4330-98D7-E43B36E9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90769-BB72-47F1-98E7-2B9744B5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04D3A-C5BE-48DF-B6DD-4081B333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9F351-C5F7-4283-94B2-322186E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2F7A9-506E-4523-854E-4F7A368A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B100E-78E6-4DE6-8233-5F48D45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05DE-EC6A-4B14-B3F7-414D6EA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35C23-5146-4F57-9171-4DEEDA3E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650C0-9A25-4EFC-A735-CFEC068E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9C81B-BDC2-4C33-9501-EEE87CC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8FFDC-79DD-4D91-9106-184D9CF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D2F94-BDE7-48B5-A9E6-37721BE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91768-E60A-41A2-9E07-9DCCAF9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1597B-A5F7-4CE6-AC92-2933B15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C2125-4375-4123-B1E4-A1C57D04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FF7C9-742D-494D-9C34-D4A5E485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548C4-D849-46F7-9B3E-67CCDBA9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FC2F-BDB2-4E20-A90B-01954DB8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D1D8E-797A-44BB-9B9A-74CAC40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68F92-1996-4E0D-BBBD-7D8B30B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48EE4-4D62-47AF-8EC9-8E661DD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59613-AB2F-4F9B-94E8-94BF399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A8816-71F1-4B9E-88D0-7C46F5A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5A91F-28C4-48E2-B3BC-AAFEC2E0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AFDA7-D01F-44AE-B52B-013C37C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DDA0E-173F-44DC-ACCD-B66ACE7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01DDD-964E-43F9-8BB7-2F36046B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9E6D5-85AE-4820-85FD-540C117B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A217-D93E-4286-9ECF-0348BFEE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D4336-3657-4E7A-9BF6-787420DF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76671-B3A0-4276-B929-90B8EE5D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15413-316B-46DD-B2A5-6AC5654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3766D-CEC7-447C-8970-DC19FAD5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A8BB2-8C35-44A5-9013-BC2F874E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57532-F776-43C3-AB98-2A7FEAB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01BC0-229F-4ECA-AB4A-BEB3EB7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0D9BD-EC5F-4D72-BB98-CC8FEFE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3F43B-CC88-4B17-AF70-2923C20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73EC4-8011-4B67-B73B-204D9E9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A585-F229-4A4E-AC1D-80327EA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0A330-594B-4288-8A8C-15277C1A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6217B-AA29-41C2-9A99-4DE027C7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5EB3F-6CD1-457A-BC22-6C7086A0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F53B-A383-4D6B-BA54-A11CD27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6FEF-FC69-438F-86C8-49D4705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8F9D-C3EC-4D7C-B419-7AAC611E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1167-0BC8-4D66-86F0-D4702041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EAF-F83F-4EEC-BDF4-18BAACE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ABCA-1E75-41FC-85F4-0A653E34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F043-3636-40F0-8652-5856D94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502C-4561-44F2-9433-FAEA27B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11CE-6031-4D0C-9683-3DC6080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12A5-BEC7-4A62-972B-B7DFA41A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D1F9-5DF5-44D4-A015-D2E4072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7D54-BA4E-4084-A547-1355898C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D453-632E-4B94-9E99-12528D4D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A116-1ADC-4D34-8F85-64299F5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F177-C17B-4DC5-9238-9E8B466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F45-E7B0-4E23-B49C-28F606F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27B8-CC01-4104-AFDF-20419D7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98B8-B071-4CE4-BE08-177580F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3CBC-D084-4B20-8DB0-CFEF5532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4127-AE5C-4822-89D4-09248AA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02AB-DA7C-4DB2-9F77-A637589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0AFD-FB34-4AEB-9925-500673B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5385-D3DC-420C-AC51-B787E111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8714-44D0-4378-A580-E702538B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BA9F-8054-4887-AF9C-5D5946A2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6CC7-38CD-4FED-A2D3-5B2EF39E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125-3AA9-4143-A85D-A00B0D34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DBCB-5DBB-49EF-91D9-0F35A79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C846-1EF9-4E45-9C94-2B3A832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5BF2-34EB-4843-8E88-3051DF74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2D22-5A76-4956-B412-BEBD7850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1EE5-FB68-49ED-BDC5-5C0B4EB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0D77-7966-4515-986A-0376CAB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E706-C7D3-4D07-A0DB-50B68FA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D93C-6CC9-4757-BF43-0C3AB43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6644-406A-4346-B0AC-341362EF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A462-8EF9-412A-A776-E3ABF37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464-05AB-44D8-A8E7-497B9727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E510-2B79-4AF0-B4A0-382850DC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3E9B-2024-48F3-A605-672942B7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DC49-493B-44F7-BFBF-4667AEC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7653-4694-47A8-BDE5-71D57A4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D169-493E-4EA8-B3CF-24028E7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F15C-84D3-49DE-9D92-D868078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C5CE-4437-4A93-8ED0-47CE17C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F31DB-2CE5-47A5-8525-784E41F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F5EA-AFC9-4D09-BC85-1EF9721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CDD3-98AD-4281-80B4-AE45E606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43C-860A-4028-AC67-62FFAD2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8547-74A6-4219-AE68-E05260A7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3575-2D96-4FCF-BB86-F029AD0A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CEBC-AD89-4F3C-94FC-D6356828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9044-14FE-4BFF-ABE2-72D6E5E8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BBA4-CC3D-491C-91EC-BAE32BF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A37F-1B12-4465-850D-1252760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ED17-C851-491B-87F6-FCFF341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1BAC-EC5D-4946-8A1E-65F25624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E31A-84AE-4510-98EE-7618AC6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C540-A9F1-4704-BFE3-7E66A3F0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27C-CD27-47EE-81FD-1FFDC9F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63EB-588E-4196-9E8F-274912A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322C-22C5-4170-9B4E-E9FD37A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A31A-CD58-4095-8649-7D69902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430A-CFDC-42D8-842B-4ED73EEC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730B-6D88-4AEC-BED9-E2C2FBC0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1E8F8-6739-4C17-856E-AE029BD9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8741-FBE8-449F-AB33-7582A466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DE66-D0EC-495F-A022-3B73E9F8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3ECB4-EA17-4974-8D37-910CAB31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76AB5-1AA4-455A-9D13-1D3CE28D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839-6080-4E2C-B683-1ABEB73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4A86-1A37-4091-979E-90DFDDAA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B966-F84C-4D81-B86C-FC27A57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90E50-7F48-4511-9310-8F29109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B65A-3135-4DC3-A95E-23033DC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A663-09E6-45BE-A664-B6D1272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2A7EE-96F2-41C6-9353-EFA631D8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0F50-5564-4AB5-9606-83F396CF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56B4C-3A44-4D22-839C-A7AE1515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B5D8-BBB8-49A3-8290-61F42B2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AB6B7-47EC-44D7-A093-1D261CC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9762-C6C4-4B4B-89A3-A98218DB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75BB-83D3-4107-B253-C654C60A3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E235-1655-4EBB-891A-C636A540F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031-C0EB-4412-9C58-EE21705E4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807-B1A7-4FEF-9367-B83FEEFDA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6FEB-0B22-4998-B26B-70C146494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F8BD-46BA-4BD7-AD12-70E70C3B8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928-0879-446F-B371-EF5D9A1B8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AD3-8DB8-4758-9BB1-32EB3BEC0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90C-6488-4904-AAA1-7F2D1B536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B67-71CE-44C1-AB20-2090BCE9D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147-5924-43E7-ADF9-F25C4B92D6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B9B-CA77-4B1A-B943-F59555279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2AB-7080-403E-B8DC-F8A6D7507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8B5-4CB2-41EB-84B4-8F4231676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B92-C686-4E20-BB2E-606931A2A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9AA-70F0-4D31-8125-B97C8AE2D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EC50-AAB7-415A-8AEF-4F69EFB8A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7FD-D0B5-485F-A2A3-F95CBE868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14C-1943-4F30-9B85-14748A101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254-EDC1-4212-8797-BB468026F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AA22-743F-401D-B92E-B582FB560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141F-A78B-46F0-A583-89CA7CB6D7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13E-CB09-400E-A798-D491643A1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4AA-9BB7-450B-9E0C-A2F212D06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DEE-4212-445B-8ED3-774A1F0BD4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8A7-D082-4EF9-AA70-C95C04525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FD6C-F07B-42F9-A7A3-108122A91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F5D5-E693-4EFE-BB8F-0FB9F629D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8388-0FBE-493E-86A3-5A2CFA657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293-7A44-43D3-9BE5-32588BBAB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9DA0-14F7-4AAF-970C-A3E420AFC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8F1-B2B5-4017-80E5-8ABAADD4A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B944-937D-4B0B-891F-767B7B7D57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0EE-824B-4C7A-A185-11AD226F7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C8DA-9F2B-4D81-A076-65DCEDDA7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8C84-5FCC-4016-9B70-FF6193AD33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7DCA-1BBF-4576-9171-320DE25AA8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1D7-20A8-45D4-94A5-AC0E7CCDB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361-49A6-4C71-9417-63FED9E48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214720" y="3214800"/>
            <a:ext cx="5252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4400" y="1004760"/>
            <a:ext cx="9115200" cy="5639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7596360" y="2133720"/>
            <a:ext cx="1223640" cy="293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247840" y="25290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372360" y="251316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347920" y="28987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3132000" y="365904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6588000" y="36655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3193920" y="404028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7093080" y="40356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2987640" y="44118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1692360" y="555768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6588000" y="5553000"/>
            <a:ext cx="165600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2411280" y="59389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6084720" y="5929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1908000" y="630864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6227640" y="6308640"/>
            <a:ext cx="122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29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